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C73C-0363-4CDE-AB73-B63130790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1D43A-F6B3-43F5-82EC-21C956DD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499D4-DF5C-4AE0-A66A-5127B1B0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6C4DD-F619-467A-A393-EC220DAECC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74042-70A0-4C7D-B5A4-C0827BA65C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28636-F8EB-4651-9DAE-BDFB6E60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7011B-8C0D-4A47-94E3-14D85B8D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F752-18DF-45B8-8021-54E6977A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7F3E7-91F8-49D6-8522-196296EA3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0A6FD-4B49-49CB-AD22-BB0216186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760BC-195E-42BA-9618-6E3DB887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1486-CB6B-4357-AE67-7E7DCA00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9EA3A-47F7-4815-9F26-F4457268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4140C-3BA8-4AA2-88AB-AC6840AF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A586A-79E9-44AA-819C-8354493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D7D1F-8295-4781-88DB-73E709C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D406E-6D73-4E07-AF81-852EC04B5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21E5-0162-4908-9037-E5BFC1C68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F070-48D4-4D35-9189-8DF01DBA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B4F2-074C-4ABA-BE74-74F4D737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C404-4237-4F26-9ECC-5CFBEABC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ABBB-3AA3-4901-9719-DA65F7DB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2511E-C08F-4DBA-BD02-F0C3467E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51F7-BAE3-47A3-86CD-6252870D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5FC-9713-4EE8-B68A-CE737329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4688-8EB9-47A9-A08B-A7F495A3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3CC7-5123-474F-97DF-1763FBD8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5265-E4CD-4837-B5A8-F67029E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014-589C-4717-ACD2-8AEA50C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CE6C-F7E1-4175-AF88-E2DF95E35B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C597E-CD64-41A7-907B-16CF18D477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978302-80FD-4192-8418-ED3FF19A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B6DE8-A5E8-42D0-9104-FDFB5405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21BEF-BE57-409C-B31E-4B480DAD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365C2-8DDD-4626-8497-8F46D89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2185DA-09D7-4A97-9B4B-FBBA7516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DB862-B549-4A25-A556-A166253E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65F83-03DF-4836-9F4A-4BD46145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7CC12-906C-4C6F-9066-B52E05E4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79838-6759-470E-A6CC-F7BDA2C2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B2E68-D5C0-49FA-AC65-3CA8B177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A7FC4-6FD8-4FEA-870C-F0674C31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AECBE-7BB2-4E11-BA64-7C1BA8A95E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903A29-48EC-43F4-9BD1-62550ED90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4B189-CC6D-48F7-8FAC-9980070A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09B19-41FC-423E-827E-B806235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AFCBE5-E579-459F-8B2C-82AD1A45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8256DA-3C99-44B6-B862-9D54F230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8A660-1AA9-4A68-945E-BF28C09A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E4C721-DA2D-4A20-8D3C-D17B9585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D0CEAC-2096-4989-9551-F33C3516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ADF059-96FB-47B2-828F-BAE0AFE5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B41D85-7C17-4554-9433-F1F39DF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84DA6-1AE3-44B3-80C8-E3102D7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99314-B622-443F-A8F3-2F0206BB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6D50-0FD5-40BF-89A2-A70313D5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72060D-AC9E-4E0E-9423-353ACB516C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428A-DC33-4D21-881E-55802DAFB3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D360-4BE3-442E-941A-18752185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752F7-8BCA-41F1-B466-4561091A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D3832-9DC6-4A76-AE5F-5D1253D7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27092-A94F-41F5-85CD-B52AE1FC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67739-1479-43CC-8D68-D1A800F6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ED607-B719-4912-A10C-B0861B6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76087-547F-463F-B46D-212DE675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47AB-FF43-4F4C-A735-5868EB61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D4A8-E1D0-4655-9713-70E7AA8A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2480C-4E6D-4A75-9788-BB7C03D8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D9F0-CEA2-4449-85FA-F987CC04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5983-E07C-4FC6-A200-019B8E7ED1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2747-F361-4EFA-A6D9-43F426C5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63D7F-378F-4265-82F5-1FCE4DE8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AF4B7E-5DF9-4454-83C0-936434FFC7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2454FEE-755C-4892-BCEE-4D0AABBC87D6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B9642CB-E015-4E47-A01D-FB44D736B19E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92B9346-D8F2-4F72-AE30-89FD00DA6B8E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019B967-BB29-452C-8FCD-55FFAF03DA37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2A11D3-EC28-4C10-A027-341830FFE14A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  <a:ea typeface="Microsoft YaHei"/>
              </a:rPr>
              <a:t>Основы православ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34960" y="2349360"/>
            <a:ext cx="749952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Урок №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Тема «Ико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749760" cy="35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rbel"/>
                <a:ea typeface="Microsoft YaHei"/>
              </a:rPr>
              <a:t>ЦЕЛИТЕЛЬ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313080" cy="4680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Нам видима связь земного и небесного мира. Постоянно возносимые иконе молитвы содержат просьбу даровать здравие и нашим телам, и нашим душ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Вознесенное от чистого сердца любое прошение обязательно услышит Матерь Божия. И в самых тяжелых ситуациях люди обращаются к ней за помощью, как к последней надеж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0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  <a:ea typeface="Microsoft YaHei"/>
              </a:rPr>
              <a:t>ВСЕХ СКОРБЯЩИХ 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Чудотворная икона «Всех Скорбящих Радость»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 - помощница обиженным, заступница убогих, утешение в печали, больных исцеление, грешных спасение, покровительница сир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4032360" cy="4546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0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1476360" y="981000"/>
            <a:ext cx="6737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30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Microsoft YaHe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824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2521080" cy="2952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516720" y="2060640"/>
            <a:ext cx="2627280" cy="375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851280" y="3284640"/>
            <a:ext cx="2516040" cy="309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1400" y="549360"/>
            <a:ext cx="3800520" cy="4535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741920" y="1601640"/>
            <a:ext cx="4125960" cy="473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900000" y="952560"/>
            <a:ext cx="3562560" cy="4827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11560" y="952560"/>
            <a:ext cx="3964320" cy="4854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572314"/>
                </a:solidFill>
                <a:uFillTx/>
                <a:latin typeface="Corbel"/>
                <a:ea typeface="Microsoft YaHei"/>
              </a:rPr>
              <a:t>ИКОНА И МО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3496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об утешении младенцев (при нарушении с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 возвращении потерянн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ежедневная молитва о счастье и благополучи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родителей о детях, которым трудно дается уч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т детских болез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т зла и вра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 мире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 путеш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324000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rbel"/>
                <a:ea typeface="Microsoft YaHei"/>
              </a:rPr>
              <a:t>БЛАГОДАТНОЕ НЕ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Иконе «Благодатное небо» молятся о тех, кто ведет неправедный образ жизни, о наставлении на путь истинный а так же о сохранении при путешествии на воздушном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370836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  <a:ea typeface="Microsoft YaHei"/>
              </a:rPr>
              <a:t>ЖИВОНОСНЫЙ ИСТ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34960" y="1749600"/>
            <a:ext cx="3673440" cy="4195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Иконе Божией Матери «ЖИВОНОСНЫЙ ИСТОЧНИК» – молятся страждущие телесными недугами, страстями и душевными немощами, обращающиеся к Ней с верою получают исц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rbel"/>
                <a:ea typeface="Microsoft YaHei"/>
              </a:rPr>
              <a:t>МЛЕКОПИТАТЕЛЬ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К иконе Божией Матери «Млекопитательница» обычно обращаются за помощью кормящие матери. Считается, что она имеет особую благодать защищать матерей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3419640" cy="566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rbel"/>
                <a:ea typeface="Microsoft YaHei"/>
              </a:rPr>
              <a:t>УТОЛИ МОИ ПЕЧ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Перед ней обращаются с молитвой к Божией Матери об избавлении от многочисленных болезней и скорбей, от греховных помыслов и страстей, обуревающих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Левую руку Богоматерь приложила к Своей голове, несколько склоненной набок, будто она прислушивается к молитвам всех обращающихся к Ней в печалях и скорб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331308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0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1:26:08Z</dcterms:created>
  <dc:creator>learn3-21</dc:creator>
  <dc:description/>
  <dc:language>en-US</dc:language>
  <cp:lastModifiedBy>михасиг</cp:lastModifiedBy>
  <dcterms:modified xsi:type="dcterms:W3CDTF">2015-01-27T09:03:41Z</dcterms:modified>
  <cp:revision>39</cp:revision>
  <dc:subject/>
  <dc:title>Ефимова Светлана Константиновна г. Ачинск, МБОУ  «сош №18» Ворс  Ольга Владимировна с.Ирбейское,МОБУ</dc:title>
</cp:coreProperties>
</file>